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FED0A-78DC-4872-A1C3-D18752F74D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E3CE-911A-47FA-9872-12CFC0697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4284-4CD4-4EAB-86A3-099EFE61E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BD4-C180-4DE8-BA28-5325334E7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7E9D-CE70-4988-BD70-29D1E2763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A27FB-6E54-437A-894F-512114CB5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AF68E-722A-4399-8263-177B21EB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72440-814F-4F10-8E24-696D8A9E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B881-BE79-4DE5-80AA-7EC3F8871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890E-3EEF-4ECA-BEF5-18BD59A2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2D553-51D5-4887-B985-6D8DE0A74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CEE7-36CB-4B1D-9ABD-68D188D0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B365-9275-4982-A436-78D085C3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74798-B50B-4DD7-A2D7-73F47074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8E4D-C5F7-443B-B875-A3871E5F3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485A-8DA9-4BFD-8337-77660C07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81AB-A415-46D3-A537-69A12B97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96251-0B25-4546-BEE9-72C48210E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9AD-C97D-44F3-A654-821B1F40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3EFB-0AB0-490B-9240-659BAA4E9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4490-B807-4E15-95AD-DE955124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3DE8-1BE3-4DB5-85D6-2EC926B5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3834-E258-43EE-A664-329B74AE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5ACB-1DA5-44C1-8366-F00444D5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84C7-0424-4634-B3B5-0C723DB2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1419-7FEF-4A6C-8B6B-E32C684DC6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85BCE-482B-4CD5-8DFC-68952A0A76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Нижний колонтитул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Нижний колонтитул 9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Нижний колонтитул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Нижний колонтитул 6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Нижний колонтитул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8-03-22T10:45:45Z</dcterms:modified>
  <cp:revision>100</cp:revision>
  <dc:subject/>
  <dc:title>PowerPoint Presentation</dc:title>
</cp:coreProperties>
</file>